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88F-E43E-422A-A85E-3FDC4F34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4E7-F1A5-4EDA-8444-1A0B2BD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BB7-4745-410E-A1DA-36A573AC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C87-7410-4F7F-9626-D0A5C46C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BC0-7DFB-45B1-B598-526503D7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BC4C-5000-474A-8710-5924CC9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30B6-1513-4B9C-B494-B9CF7CB0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D880-1E35-4E13-AA40-CF04D61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38FA-19FF-4030-9914-18BE4FC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03FC-B639-4D96-B0D7-57DBF12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6B8-788E-4D7B-9BA7-A1E108E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2FD-81BE-4CC1-83C7-5430C465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F2C2-641D-406B-9F45-10A85A9C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186-D259-43BD-B48F-CC5835C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5183-ADB2-422B-9EFA-6B05DF2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23B-CCA0-4BB5-8D9D-5D0C6347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CF7F-8F06-44AA-8C7F-DDC387A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32C9-2ED7-4B2B-A942-6728DDB1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6C31-E117-4271-BBF0-44F9EBB4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5273-F431-4A89-B096-0222047E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AD75-6DDF-44B2-BB9B-80C848AD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0CC9-E276-4CD6-AE61-7069DEF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7CF-5ABD-46A9-BD3C-81CD7C43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2BA8-4402-40B5-9F4F-52B21F66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2117-6B21-4908-B807-E78CC6D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BF06-034F-4266-AE2B-1C8EFF0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1950-64E6-4C08-986A-D688201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9496-C41B-4FC2-AE18-53BD67B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4C9F-8877-43D0-A0DD-35D463BD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3616-8021-4C4E-9DD1-DED3E13B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1BF0-7BE7-4066-9AAB-92032E23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9BAC-E7EA-4B53-9E70-754DE03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C1CD-9F85-478C-8716-6F77DE5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C37-8FF8-4D04-891B-E1A5158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0DDB-469C-4A42-8275-E1707024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1C3A-4A6A-46B1-84EA-B7C8012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9312-740F-498B-981E-F6B426CD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749C-CDB3-4C87-A246-37DBBEA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5683-2C8E-4AE8-8890-96CB204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512D-A70F-4150-826E-97EE0AA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4810-9AB8-42E6-8FC6-CAF25BA0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1651-B982-4D24-B6B1-5A5B94D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1DCD-3D23-44AC-97DD-DB858ADA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C313-1079-4D82-8A12-D58C858A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C35-B1BA-498E-9EBE-B55BBDB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5436-86B9-497A-9D65-9FFE7EC8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2EAD-FFB1-4ACD-ABEE-F2FDF00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6179-C4BB-4D90-A4D0-C5E3435F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D599-B081-4CEB-8759-E376130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A25D-DE1B-4CF3-A7A8-54F5BE8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63CE4-D5DE-4360-85B0-E1287A6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1261-97D5-4F36-8E29-EEAEA35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4436-554C-4F94-9EF3-2E7917C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A97A6-0C53-42AF-831C-4455020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248E-2F16-40C3-BF18-9BF20536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EB1-0384-4481-AACF-6B7A269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1C56-297E-4B5E-8E6F-8801EBF7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561AA-650A-4A26-AF22-8F387E6C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585DF-14A9-4D8B-92EA-5396223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C97E6-57C2-4DDB-B770-83CAFEB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BC41A-FE9F-4817-9D56-274F6ED6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A1447-9754-48BD-8CD5-5F89932F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A2CB5-4013-4BDE-A3B5-B666A120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AA8D7-BDA8-4852-B56F-D996AF6C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8FD0CD-3F04-4CF2-95BC-E1F5BD4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DB8F9-63F1-47B3-884A-18A189E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74F-CCD1-457B-803A-330F39D7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101A3-8FDA-42CC-89B5-9778829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0B5D6-6436-4302-8CB0-F2A70E0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B5A99-B6A9-46EF-889E-85EC411D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91079-F411-43D6-8D23-A0ACB315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E2B6-1068-4AFB-9D21-D9D8D452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0E8B-EE42-4FE8-9F4A-71BFEF29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E4AE-F02E-4EFB-82B3-8F0D6AE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BBC6A-784F-4341-886E-82623C0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22D4-8336-425D-BD14-8AE0ABC1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BA5B9-EC35-4129-9661-C28FBCC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A3E-9970-400D-9348-71720B6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19F8-15F3-4C94-A6A1-12C6E75C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02A8-6105-4654-BA70-A6CADFD2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79E8-5C0F-42C4-BE38-D79ADA7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41367-15BF-45D4-A2C2-DC8BA5FC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1A7DF-95F1-468A-885E-C8EFCD3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8E69A-98F7-450A-A004-06D968E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FC8DA-FAF3-4AAA-88A2-6E8B0BC6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92E7-2208-4384-B2E7-B029EAFC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3D1F-65A1-40B8-BEE6-D75B540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5F89-7531-4542-A310-997817FA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9DD-961C-4514-B5E8-67DDF68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6952-0B5C-4379-B3C1-21284D2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C3CD-10E5-4435-9CBC-99A370A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EA8C2-F644-4D07-AE90-673C0EFC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4B84-35F2-46A2-883E-D2CA57F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BD52C-9C00-44F7-AF80-98A14C2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1D34-6F06-4118-AC75-32FEBF80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622C-9ED4-41CB-9E95-5DC6681E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8AF2-EA45-48D6-8609-5AD9973603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813A-8E30-41A9-8BBB-0AE273762A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A72-C13C-4A02-A743-3AA2BBD57C0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C902-D04B-41B3-9FD5-DDE78249ACD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C33-8AAA-4D15-86CA-87F797887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C9D6-A469-4950-A176-09FE8E55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395-3C8C-4605-A854-8C6BD9011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EAC6-1B33-4CD7-B2F6-C106E9FD8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u/Cooper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095880" y="4343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4343400"/>
            <a:ext cx="2819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org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ptember, 27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eriod #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mputer #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457200"/>
            <a:ext cx="493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l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973160" cy="22129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267080" y="6477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li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143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vention: Jell-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l-o contains gelatin which is made out of boiled animal b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’s wife actually created the name Jell-o for her husband’s new and delicious inven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00, Peter (inventor), sold his “Jell-o” invention to a man named Francis Woodw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60, Jell-o sales reached to… $1,000,000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ole idea came up when Mr. Cooper started to play with gelatin.  Then he made fruit flavored gelati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Inventor: Peter Coo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 Cooper was an engineer, and a philanthrop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lso was active in politics, and community affairs, and known for a variety of useful inven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in New York City on Feburary 12, 179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ew up in Peeksville New Y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he was a boy, he was great at masonry, hat making, and machin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Cooper"/>
          <p:cNvPicPr/>
          <p:nvPr/>
        </p:nvPicPr>
        <p:blipFill>
          <a:blip r:embed="rId1"/>
          <a:stretch/>
        </p:blipFill>
        <p:spPr>
          <a:xfrm>
            <a:off x="0" y="0"/>
            <a:ext cx="5638680" cy="3200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Cooper"/>
          <p:cNvPicPr/>
          <p:nvPr/>
        </p:nvPicPr>
        <p:blipFill>
          <a:blip r:embed="rId2"/>
          <a:stretch/>
        </p:blipFill>
        <p:spPr>
          <a:xfrm>
            <a:off x="6172200" y="914400"/>
            <a:ext cx="2971800" cy="5943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28600" y="388620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ter Coo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,Sept. 29,2010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http://web.mit.edu/invent/iou/Coope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5Z</dcterms:created>
  <dc:creator>install</dc:creator>
  <dc:description/>
  <dc:language>en-US</dc:language>
  <cp:lastModifiedBy>install</cp:lastModifiedBy>
  <dcterms:modified xsi:type="dcterms:W3CDTF">2010-10-14T17:29:33Z</dcterms:modified>
  <cp:revision>14</cp:revision>
  <dc:subject/>
  <dc:title>Slide 1</dc:title>
</cp:coreProperties>
</file>